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B833-ECF7-484F-8692-BBC24307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9CE-1E29-4687-BD3A-D3BC1D77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E00-6030-4552-B556-7EEC2382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36C-9791-496B-8E15-F52DB8EE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E890-E7B3-42C1-AA48-BF6166C2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7F5A-F6A5-4815-8DDD-68BA5A7A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51CD-7649-4141-8B4B-AECFF143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5258-69B3-4256-8AAD-1CA56983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9DB0-0E06-4E6A-9942-33195D4A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5AC7-298E-479E-BC2D-89D761ED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D005-CE21-4DD8-BC2D-3649164F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AE1-15F1-4DEB-877B-CF91FA41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F4C8-33CF-40C6-AAE3-FA28D415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8A71-85B2-47AB-9157-6ED3F44E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E73B-C5BC-469B-A231-A0468F3A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FE2F-82D0-4F0F-9E60-3B882ADC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395B-E8CA-47C4-8164-82EEBDB3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487-F42E-41BA-B091-58D8A67D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D73-5F9B-48BA-B5D8-268D854F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65C-754C-4666-8FB8-BFC7C851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03A1-ED84-49CC-A07E-C58976DE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EA7-2450-414D-A9A1-12FDDB36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A34-FA0A-487C-882F-58DB1762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E9AE-8819-4ED1-AF32-7B144BC7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219D-FD11-45C3-85B3-1F312EEAA65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6898-40BC-432A-9E0C-E46887FADB7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Verdana"/>
              </a:rPr>
              <a:t>Legge 199/201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000" y="3428640"/>
            <a:ext cx="7802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zioni virtuose e criticit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-8280" y="2721960"/>
            <a:ext cx="16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6360" y="691200"/>
            <a:ext cx="53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GRAZ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Monica Accog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Flai CGIL Lec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280" y="249228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repressive (attraverso le forze dell’ordine e attività di contrasto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otenziamento della Rete del lavoro Agricolo di Qualità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-8280" y="2707560"/>
            <a:ext cx="16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39280" y="1196640"/>
            <a:ext cx="8001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a legge individua percorsi per aggredire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fruttamento del lavoro e intermediazione illeci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280" y="3068640"/>
            <a:ext cx="8001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le principio incontrerebbe gli auspici della Regionale (Puglia) 28/2006 e del Protocollo Sperimentale “Cura-legalità e uscita dal Ghetto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risorse:POR 2014/20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539280" y="1341360"/>
            <a:ext cx="80010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potesi:individuazione di un ”soggetto regionale“ di contrasto al lavoro nero e caporal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80010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INCONTRO DOMANDA/OFFERTA DI LAVORO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001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Costituzione presso i CpI di “sezione per il mercato del lavoro in agricoltura”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ttivazione sportelli mobili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ormazione degli operatori dei Cp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ACCOGLIEN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tilizzo delle risorse (legge di bilancio regionale Puglia 2016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tilizzo risorse previste nel Piano Regionale per le Politiche Abitative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getti sperimentali “campi di Ospitalita” (Protocollo di Lecce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getti sperimentali Enti bilaterali del settore Agricolo (CASSA AMICA LECCE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TRASPOR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ondi FESR (Asse 7 trasporto pubblico local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stituzione di Protocolli specifici con i Comuni (Protocollo di Lecc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evisione di un sistema incentivante per le imprese che utilizzano trasporto pubblic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EDUCAZIONE ALLA LEGALIT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rt. 1 Legge regionale 28/2006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tocolli d’intesa tra pubbliche amministrazioni e OO.DD. e OO.S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di monitoraggio degli indici di congruità in agricoltura (regolamento n. 31/2009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765000"/>
            <a:ext cx="800100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Protocollo d’Intesa Lec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tato dell’arte e critic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Attività sindacali FLAI CGIL</a:t>
            </a:r>
            <a:br>
              <a:rPr sz="3400"/>
            </a:b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(oltre la Legge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ttività “Ancora in campo”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getto “Formazione SPRAR E CAS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0T15:38:31Z</dcterms:created>
  <dc:creator>Monica</dc:creator>
  <dc:description/>
  <dc:language>en-US</dc:language>
  <cp:lastModifiedBy>Maria Carmela Macri</cp:lastModifiedBy>
  <dcterms:modified xsi:type="dcterms:W3CDTF">2017-12-12T10:49:58Z</dcterms:modified>
  <cp:revision>6</cp:revision>
  <dc:subject/>
  <dc:title>Legge 199/2016</dc:title>
</cp:coreProperties>
</file>